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65A-8789-4CA3-89AB-FC5E15BB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85C-2837-43DE-9D01-F88EE73D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580-9357-4D9A-BB08-17EEFBA9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16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16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227F-B725-4571-9F1A-1D5510D3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738D-D78A-4D92-B353-30B67C50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D874-9B69-4804-8D3D-22316076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0E0D-BCD9-4743-BD29-E2ADB93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8F0D-8AD0-402A-B08E-DB807AB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7950-8FDA-4014-AA76-752B11F9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0752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D374-F247-47E6-8E9D-DF984818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D4E1-2453-4978-9FBA-AA42381D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DB0-FFB9-4182-A42C-F3D2F08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40AA-6254-470C-B2CA-9252E39C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03CC-998E-4238-B55E-67D151E8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A538-C6CE-468D-8D44-CD736CB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19CA-E1F7-44FF-826F-18C7D8F2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816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500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32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816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500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280B-798B-4C5C-8D11-53DC886E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1DA-6CEA-4723-A946-81AAC4C6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A7A-CF55-4B49-BB8F-5B5F75E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1F9-5904-46D0-AA67-9AB9CE01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0752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365-1D9B-4023-8C8E-DFEE9C6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941-1065-4B7A-A750-B8344D8B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CE0-94E9-4F2A-B020-2748068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D8F-BC54-4B89-A7C0-FE1AFF2F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2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3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0F415-6051-4B23-96E0-0858901D562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769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2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3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510B4-7258-4B7B-A0EB-4DA7EF7C493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7120" y="428760"/>
            <a:ext cx="8786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33cccc"/>
                </a:solidFill>
                <a:latin typeface="Arial"/>
              </a:rPr>
              <a:t>МУНИЦИПАЛЬНОЕ ОБРАЗОВАНИ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33cccc"/>
                </a:solidFill>
                <a:latin typeface="Arial"/>
              </a:rPr>
              <a:t>«КРАСНОПОЛЯНСКОЕ СЕЛЬСКОЕ ПОСЕЛЕНИЕ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360" y="2643120"/>
            <a:ext cx="7056360" cy="179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НЕНИЕ БЮДЖЕТА 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СНОПОЛЯНСКОГО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ЛЬСКОГО ПОСЕЛЕНИЯ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2014 ГОД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49360"/>
            <a:ext cx="7777080" cy="360360"/>
          </a:xfrm>
          <a:prstGeom prst="roundRect">
            <a:avLst>
              <a:gd name="adj" fmla="val 16667"/>
            </a:avLst>
          </a:prstGeom>
          <a:solidFill>
            <a:srgbClr val="00a2d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СТРУКТУРА МУНИЦИПАЛЬНЫХ ПРОГРАММ ЗА 2014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2997360"/>
            <a:ext cx="1368360" cy="72072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44 246,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тыс. руб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205000"/>
            <a:ext cx="2448000" cy="158436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Защита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и территории о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чрезвычайных ситуа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еспечение  пожар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безопасности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безопасности люд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а водных объект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54,6 тыс. руб. 0,3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907920"/>
            <a:ext cx="1908000" cy="115272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храна окружающ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реды и рациона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иродопользов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 558,1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5,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653000"/>
            <a:ext cx="2016360" cy="86364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звитие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 198,6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,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2421000"/>
            <a:ext cx="2305080" cy="122400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еспечение  качествен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жилищно-коммунальным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услугами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9 139,4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9,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1052640"/>
            <a:ext cx="2016000" cy="93492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звитие транспорт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истемы 3 092,8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2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734080"/>
            <a:ext cx="2016000" cy="86364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оциальная поддерж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граждан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34,6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0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3280" y="5734080"/>
            <a:ext cx="2016360" cy="86364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звитие физ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ультуры и спор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38,2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0,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2720" y="4797360"/>
            <a:ext cx="2232000" cy="863640"/>
          </a:xfrm>
          <a:prstGeom prst="rect">
            <a:avLst/>
          </a:prstGeom>
          <a:solidFill>
            <a:srgbClr val="cc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Муниципальная поли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,0 тыс. 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0,0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9640" y="1989000"/>
            <a:ext cx="1082520" cy="100836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55680" y="2133720"/>
            <a:ext cx="1155960" cy="863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216400" y="3068640"/>
            <a:ext cx="1446480" cy="14436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216400" y="3569760"/>
            <a:ext cx="1519200" cy="166212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71640" y="3715920"/>
            <a:ext cx="1158840" cy="20242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64000" y="3716280"/>
            <a:ext cx="576360" cy="1952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627280" y="3645000"/>
            <a:ext cx="1152720" cy="122400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7280" y="2997360"/>
            <a:ext cx="1224000" cy="215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2000" y="2205000"/>
            <a:ext cx="2737080" cy="2158920"/>
          </a:xfrm>
          <a:prstGeom prst="ellipse">
            <a:avLst/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ДЖ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УЩЕСТВЛЯЛО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3240000" cy="172872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дерального зако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06.10.2003 г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31-ФЗ «Об общ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нципах организац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естного самоуправ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Российской Федераци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260280"/>
            <a:ext cx="3672000" cy="165744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го закона от 22.10.2005 го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80-ЗС «О межбюджетных отношени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рганов государствен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органов местного самоуправ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Ростов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980000">
            <a:off x="2131920" y="2133360"/>
            <a:ext cx="1008000" cy="512640"/>
          </a:xfrm>
          <a:prstGeom prst="rtTriangle">
            <a:avLst/>
          </a:prstGeom>
          <a:solidFill>
            <a:srgbClr val="c0c0c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700000">
            <a:off x="6046920" y="1951560"/>
            <a:ext cx="579600" cy="933480"/>
          </a:xfrm>
          <a:prstGeom prst="rtTriangle">
            <a:avLst/>
          </a:prstGeom>
          <a:solidFill>
            <a:srgbClr val="c0c0c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724280"/>
            <a:ext cx="3240000" cy="172908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шения Собрания депута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снополянского сель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я от 26.09.2007 года №56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О бюджетном проце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Краснополянском сельск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960000">
            <a:off x="2268720" y="3786120"/>
            <a:ext cx="504720" cy="1076400"/>
          </a:xfrm>
          <a:prstGeom prst="rtTriangle">
            <a:avLst/>
          </a:prstGeom>
          <a:solidFill>
            <a:srgbClr val="c0c0c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4724280"/>
            <a:ext cx="3671640" cy="165744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ешения Собрания депута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снополянского сель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я от 27.12.2013 года №4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О бюджете Краснополянского сель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я Песчанокоп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 2014 год и на плановый пери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15 и 2016 годо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3860640"/>
            <a:ext cx="935280" cy="720720"/>
          </a:xfrm>
          <a:prstGeom prst="rtTriangle">
            <a:avLst/>
          </a:prstGeom>
          <a:solidFill>
            <a:srgbClr val="c0c0c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33336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341360"/>
            <a:ext cx="8497800" cy="107964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ТЕРРИТОРИИ КРАСНОПОЛЯНСКОГО СЕЛЬСКОГО ПОСЕЛЕНИЯ НАХОДИТСЯ ОД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НИЦИПАЛЬНОЕ УНИТАРНОЕ ПРЕДПРИЯТИЕ, ЯВЛЯЮЩЕЕСЯ МУНИЦИПАЛЬ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БСТВЕННОСТЬЮ МУНИЦИПАЛЬНОГО ОБРАЗОВАНИЯ «КРАСНОПОЛЯНСКОГО СЕЛЬ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СЕЛЕНИЯ» СНАБЖАЮЩЕЕ НАСЕЛЕНИЕ ПИТЬЕВОЙ ВОД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708280"/>
            <a:ext cx="7705440" cy="100800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СОСТОЯНИЮ НА 01.01.2015 ГОДА КОЛИЧЕСТВО ПОЛУЧАТЕЛЕЙ СРЕДСТВ И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ЮДЖЕТА КРАСНОПОЛЯНСКОГО СЕЛЬСКОГО ПОСЕЛЕНИЯ СОСТАВЛЯЕТ 2 УЧРЕ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БУК «ДОМ КУЛЬТУРЫ КРАСНОПОЛЯНСКОГО СЕЛЬСКОГО ПОСЕЛЕНИЯ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БУК «СЕЛЬСКАЯ БИБЛИОТЕКА  КРАСНОПОЛЯНСКОГО СЕЛЬСКОГО ПОСЕЛЕ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292640"/>
            <a:ext cx="3024000" cy="180036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ЮДЖЕТНЫХ КРЕДИ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2014 ГОД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БЮДЖЕТА КРАСНОПОЛЯ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ЛЬСКОГО ПОСЕ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ЧАНОКОПСКОГО РАЙ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ЕДОСТАВЛЯЛОС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4292640"/>
            <a:ext cx="3024360" cy="1800360"/>
          </a:xfrm>
          <a:prstGeom prst="roundRect">
            <a:avLst>
              <a:gd name="adj" fmla="val 16667"/>
            </a:avLst>
          </a:prstGeom>
          <a:solidFill>
            <a:srgbClr val="0079a4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РОЧЕНЫЕ ДОЛ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 ВСЕМ РАСХОДНЫ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ЯЗАТЕЛЬСВАМ СЕЛЬ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ЕЛЕНИЯ ОТСУТСВУЮ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УНИЦИПАЛЬНЫЙ ДОЛ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ОПОЛЯНСКОГО СЕЛЬ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ЕЛЕНИЯ ПО СОСТОЯ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1 ЯНВАРЯ 2015 Г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СУТСВУ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38040" y="237960"/>
            <a:ext cx="7505640" cy="384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3336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26920" y="866880"/>
          <a:ext cx="7686720" cy="5680080"/>
        </p:xfrm>
        <a:graphic>
          <a:graphicData uri="http://schemas.openxmlformats.org/drawingml/2006/table">
            <a:tbl>
              <a:tblPr/>
              <a:tblGrid>
                <a:gridCol w="2433960"/>
                <a:gridCol w="1268280"/>
                <a:gridCol w="1197000"/>
                <a:gridCol w="1361880"/>
                <a:gridCol w="1425600"/>
              </a:tblGrid>
              <a:tr h="73332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ОСНОВНЫЕ ПОКАЗАТЕЛИ БЮДЖЕТА КРАСНОПОЛЯНСКОГО СЕЛЬСКОГО ПОСЕЛЕНИЯ ЗА 201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ffff"/>
                      </a:solidFill>
                    </a:lnT>
                    <a:lnB w="432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ИСПОЛНЕНИЕ ЗА 201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ИСПОЛНЕНИЕ ЗА 2014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ТЕМП РОСТА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1d7ec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СУММА ОТКЛОНЕНИЯ +,-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ГР.3-ГР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1d7ec"/>
                    </a:solidFill>
                  </a:tcPr>
                </a:tc>
              </a:tr>
              <a:tr h="2808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57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ДОХОДЫ, 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1 45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4 43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в 3 р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2 98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19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14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НАЛОГОВЫЕ И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8 16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2 17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4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 01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33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31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7 56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1 52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 96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319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60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64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4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14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 28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2 2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в 6 ра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cc5d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8 97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cc5db"/>
                    </a:solidFill>
                  </a:tcPr>
                </a:tc>
              </a:tr>
              <a:tr h="385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1 70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2 35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в 3 р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0 65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1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РЕЗУЛЬТАТ ИСПОЛНЕНИЯ БЮДЖЕТА (ДЕФИЦИТ «-», ПРОФИЦИТ «+»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7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 07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549360"/>
          <a:ext cx="8136000" cy="595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49360"/>
                    <a:ext cx="81360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549360"/>
          <a:ext cx="7848720" cy="597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549360"/>
                    <a:ext cx="784872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836640"/>
          <a:ext cx="8089560" cy="5660640"/>
        </p:xfrm>
        <a:graphic>
          <a:graphicData uri="http://schemas.openxmlformats.org/drawingml/2006/table">
            <a:tbl>
              <a:tblPr/>
              <a:tblGrid>
                <a:gridCol w="2522880"/>
                <a:gridCol w="1195560"/>
                <a:gridCol w="1135080"/>
                <a:gridCol w="1618200"/>
                <a:gridCol w="1617840"/>
              </a:tblGrid>
              <a:tr h="546120">
                <a:tc gridSpan="5"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4320">
                      <a:solidFill>
                        <a:srgbClr val="00a2dc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02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ПЛА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ФА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ОТКЛОН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(+,-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УДЕЛЬНЫЙ ВЕС В СУММЕ  ПОСТУПЛ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432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432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ВСЕГО ПОСТУПЛ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2 25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2 258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- 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400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ДО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 24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 24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54648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СУБВЕН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5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5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1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13446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ИНЫЕ МЕЖБЮДЖЕТНЫЕ ТРАНФЕ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0 85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20 85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- 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95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a2dc"/>
                      </a:solidFill>
                    </a:lnL>
                    <a:lnR w="1440">
                      <a:solidFill>
                        <a:srgbClr val="00a2dc"/>
                      </a:solidFill>
                    </a:lnR>
                    <a:lnT w="1440">
                      <a:solidFill>
                        <a:srgbClr val="00a2dc"/>
                      </a:solidFill>
                    </a:lnT>
                    <a:lnB w="1440">
                      <a:solidFill>
                        <a:srgbClr val="00a2dc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692280"/>
          <a:ext cx="7993080" cy="5689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799308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0"/>
            <a:ext cx="8640720" cy="431640"/>
          </a:xfrm>
          <a:prstGeom prst="rect">
            <a:avLst/>
          </a:prstGeom>
          <a:solidFill>
            <a:srgbClr val="00cc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ОЕ ОБРАЗОВАНИЕ «КРАСНОПОЛЯН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549360"/>
            <a:ext cx="7777080" cy="360360"/>
          </a:xfrm>
          <a:prstGeom prst="roundRect">
            <a:avLst>
              <a:gd name="adj" fmla="val 16667"/>
            </a:avLst>
          </a:prstGeom>
          <a:solidFill>
            <a:srgbClr val="00a2d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РАСХОДЫ БЮДЖЕТА КРАСНОПОЛЯНСКОГО СЕЛЬСКОГО ПОСЕЛЕНИЯ ЗА 2014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2852640"/>
            <a:ext cx="1800000" cy="129564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32 428,5 ты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рубл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1052640"/>
            <a:ext cx="2232000" cy="107928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одержание аппара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 826,2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3,4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1125360"/>
            <a:ext cx="2232000" cy="100836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руг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щегосударствен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01,5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,3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125360"/>
            <a:ext cx="1871640" cy="107964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азвитие физиче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ультуры и спор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38,2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,6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781360"/>
            <a:ext cx="1944720" cy="100800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ацион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ор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54,6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0,8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16720" y="2276640"/>
            <a:ext cx="2232000" cy="100800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ациональ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54,6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,0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149720"/>
            <a:ext cx="1944360" cy="108108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орожное хозяй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 092,8 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6,2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5516640"/>
            <a:ext cx="2016000" cy="100800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оциальная поддерж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граж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34,6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0,2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3500280"/>
            <a:ext cx="2232000" cy="107964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ммуна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хозяй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9 139,4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0,3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4653000"/>
            <a:ext cx="2232000" cy="107964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Благоустрой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 558,1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6,3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516640"/>
            <a:ext cx="2232360" cy="1079280"/>
          </a:xfrm>
          <a:prstGeom prst="ellipse">
            <a:avLst/>
          </a:prstGeom>
          <a:solidFill>
            <a:srgbClr val="cc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 198,6 тыс.руб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,5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2205000"/>
            <a:ext cx="360360" cy="574560"/>
          </a:xfrm>
          <a:prstGeom prst="upArrow">
            <a:avLst>
              <a:gd name="adj1" fmla="val 50000"/>
              <a:gd name="adj2" fmla="val 39860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8420000">
            <a:off x="3144240" y="1811520"/>
            <a:ext cx="360360" cy="1177920"/>
          </a:xfrm>
          <a:prstGeom prst="upArrow">
            <a:avLst>
              <a:gd name="adj1" fmla="val 50000"/>
              <a:gd name="adj2" fmla="val 81718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2604240" y="2732400"/>
            <a:ext cx="360360" cy="1177920"/>
          </a:xfrm>
          <a:prstGeom prst="upArrow">
            <a:avLst>
              <a:gd name="adj1" fmla="val 50000"/>
              <a:gd name="adj2" fmla="val 81718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4400000">
            <a:off x="2676240" y="3594960"/>
            <a:ext cx="360360" cy="1322280"/>
          </a:xfrm>
          <a:prstGeom prst="upArrow">
            <a:avLst>
              <a:gd name="adj1" fmla="val 50000"/>
              <a:gd name="adj2" fmla="val 91733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2480000">
            <a:off x="3442680" y="4303800"/>
            <a:ext cx="360360" cy="1224000"/>
          </a:xfrm>
          <a:prstGeom prst="upArrow">
            <a:avLst>
              <a:gd name="adj1" fmla="val 50000"/>
              <a:gd name="adj2" fmla="val 84915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9360000">
            <a:off x="4938120" y="4227480"/>
            <a:ext cx="360360" cy="1224000"/>
          </a:xfrm>
          <a:prstGeom prst="upArrow">
            <a:avLst>
              <a:gd name="adj1" fmla="val 50000"/>
              <a:gd name="adj2" fmla="val 84915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7560000">
            <a:off x="5681520" y="3709800"/>
            <a:ext cx="360360" cy="1296720"/>
          </a:xfrm>
          <a:prstGeom prst="upArrow">
            <a:avLst>
              <a:gd name="adj1" fmla="val 50000"/>
              <a:gd name="adj2" fmla="val 89960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6420000">
            <a:off x="5870520" y="3143160"/>
            <a:ext cx="360360" cy="1224000"/>
          </a:xfrm>
          <a:prstGeom prst="upArrow">
            <a:avLst>
              <a:gd name="adj1" fmla="val 50000"/>
              <a:gd name="adj2" fmla="val 84915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4560000">
            <a:off x="5726520" y="2508480"/>
            <a:ext cx="360360" cy="1079640"/>
          </a:xfrm>
          <a:prstGeom prst="upArrow">
            <a:avLst>
              <a:gd name="adj1" fmla="val 50000"/>
              <a:gd name="adj2" fmla="val 74900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3240000">
            <a:off x="5383080" y="1817640"/>
            <a:ext cx="360360" cy="1293840"/>
          </a:xfrm>
          <a:prstGeom prst="upArrow">
            <a:avLst>
              <a:gd name="adj1" fmla="val 50000"/>
              <a:gd name="adj2" fmla="val 89760"/>
            </a:avLst>
          </a:prstGeom>
          <a:solidFill>
            <a:srgbClr val="ffffff"/>
          </a:solidFill>
          <a:ln cap="sq"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24:02Z</dcterms:created>
  <dc:creator>User</dc:creator>
  <dc:description/>
  <cp:keywords/>
  <dc:language>en-US</dc:language>
  <cp:lastModifiedBy>Пользователь</cp:lastModifiedBy>
  <dcterms:modified xsi:type="dcterms:W3CDTF">2015-05-14T12:08:56Z</dcterms:modified>
  <cp:revision>92</cp:revision>
  <dc:subject/>
  <dc:title>Слайд 1</dc:title>
</cp:coreProperties>
</file>